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wmf" ContentType="image/x-wmf"/>
  <Override PartName="/ppt/media/image18.jpeg" ContentType="image/jpeg"/>
  <Override PartName="/ppt/media/image26.png" ContentType="image/png"/>
  <Override PartName="/ppt/media/image17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0421-EBE8-45B4-9E0C-9E3BD901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8CE1-F873-4D17-BF76-3AEAD34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C706-54EF-4EF2-9C27-7479D556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52F1-B648-487A-B8D5-BE89F393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3881-FA58-4105-8D7D-DEEC59D6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7628-FF72-4EEF-9A9E-9D10468D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2249-2701-4739-9EC6-5D9EAD47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B3D-6413-425A-95A8-5C695F60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6DCE-4C33-4039-B75D-FAD3397A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538C-8C94-45C2-82FB-0B7BA780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B4BC-360F-41E1-8E06-60F625C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37DD-42AF-4E62-B79E-EA75096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0E13-8730-481B-A0D1-5F33D8C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931E-B62A-4E57-8E85-ACB303B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AE16-BCCA-4C4E-917C-5EF6827C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ADC1-92AF-4DF6-907A-8C6992ED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F9EA-C74A-4A9F-9997-411DD427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FE5F-B3CD-4F12-9DD6-7B155DE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9946-C0F1-489A-B672-3C4B95E0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51DF-8DF2-4025-B1A8-B261AD46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E7E8-70A3-4FEC-ACD6-DF236FDB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0D2B-9698-4B6D-8D41-6DCE627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32B3-8B94-442A-9066-8CDF718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6228-60EF-4A42-A8D0-2E1FB05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F9A-F74F-4296-852A-A2271736A0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CE02-EA15-4C9A-944D-29D3F3212D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900" spc="-1" strike="noStrike">
                <a:solidFill>
                  <a:srgbClr val="0000ff"/>
                </a:solidFill>
                <a:latin typeface="Arial"/>
              </a:rPr>
              <a:t>Золотое сечение вокруг нас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4176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Исследование №1</a:t>
            </a:r>
            <a:br>
              <a:rPr sz="24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олотое сечение» в переплётах школьных учеб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16000" y="4005360"/>
          <a:ext cx="7201080" cy="2448000"/>
        </p:xfrm>
        <a:graphic>
          <a:graphicData uri="http://schemas.openxmlformats.org/drawingml/2006/table">
            <a:tbl>
              <a:tblPr/>
              <a:tblGrid>
                <a:gridCol w="2989440"/>
                <a:gridCol w="1360440"/>
                <a:gridCol w="1493640"/>
                <a:gridCol w="1357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08"/>
          <p:cNvSpPr/>
          <p:nvPr/>
        </p:nvSpPr>
        <p:spPr>
          <a:xfrm>
            <a:off x="1539000" y="41551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33" descr="Безымянный3.jpg"/>
          <p:cNvPicPr/>
          <p:nvPr/>
        </p:nvPicPr>
        <p:blipFill>
          <a:blip r:embed="rId1"/>
          <a:stretch/>
        </p:blipFill>
        <p:spPr>
          <a:xfrm>
            <a:off x="4857840" y="642960"/>
            <a:ext cx="35352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417672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Исследование №2</a:t>
            </a:r>
            <a:br>
              <a:rPr sz="24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Золотое сечение» в расположении листьев на стеб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IMG_0450"/>
          <p:cNvPicPr/>
          <p:nvPr/>
        </p:nvPicPr>
        <p:blipFill>
          <a:blip r:embed="rId1"/>
          <a:srcRect l="0" t="0" r="0" b="28087"/>
          <a:stretch/>
        </p:blipFill>
        <p:spPr>
          <a:xfrm>
            <a:off x="5003640" y="333360"/>
            <a:ext cx="3240360" cy="280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68" name="Line 5"/>
          <p:cNvSpPr/>
          <p:nvPr/>
        </p:nvSpPr>
        <p:spPr>
          <a:xfrm>
            <a:off x="7524720" y="76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7451640" y="155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7236000" y="263700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8604360" y="76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60436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8604360" y="907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620200" y="198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5508720" y="5013360"/>
                <a:ext cx="20160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3"/>
              <p:cNvSpPr txBox="1"/>
              <p:nvPr/>
            </p:nvSpPr>
            <p:spPr>
              <a:xfrm>
                <a:off x="2050920" y="5013360"/>
                <a:ext cx="18734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6"/>
          <p:cNvSpPr/>
          <p:nvPr/>
        </p:nvSpPr>
        <p:spPr>
          <a:xfrm>
            <a:off x="1324080" y="4161240"/>
            <a:ext cx="73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=3,7см           в=6см                 с=9,7с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5651640" y="3377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нх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38880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Исследование №3</a:t>
            </a:r>
            <a:br>
              <a:rPr sz="24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олотое сечение» в пропорциях человеческого т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IMG_0048"/>
          <p:cNvPicPr/>
          <p:nvPr/>
        </p:nvPicPr>
        <p:blipFill>
          <a:blip r:embed="rId1"/>
          <a:srcRect l="19063" t="0" r="10622" b="0"/>
          <a:stretch/>
        </p:blipFill>
        <p:spPr>
          <a:xfrm>
            <a:off x="4572000" y="260280"/>
            <a:ext cx="20145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IMG_0485"/>
          <p:cNvPicPr/>
          <p:nvPr/>
        </p:nvPicPr>
        <p:blipFill>
          <a:blip r:embed="rId2"/>
          <a:srcRect l="37819" t="7040" r="0" b="4984"/>
          <a:stretch/>
        </p:blipFill>
        <p:spPr>
          <a:xfrm>
            <a:off x="6804000" y="2852640"/>
            <a:ext cx="2079720" cy="3743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4643280" y="4076640"/>
                <a:ext cx="1511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716360" y="4508640"/>
                <a:ext cx="1656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4716360" y="4869000"/>
                <a:ext cx="12956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716360" y="5661000"/>
                <a:ext cx="13683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4"/>
              <p:cNvSpPr txBox="1"/>
              <p:nvPr/>
            </p:nvSpPr>
            <p:spPr>
              <a:xfrm>
                <a:off x="7451640" y="333360"/>
                <a:ext cx="1368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7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6"/>
              <p:cNvSpPr txBox="1"/>
              <p:nvPr/>
            </p:nvSpPr>
            <p:spPr>
              <a:xfrm>
                <a:off x="7451640" y="836640"/>
                <a:ext cx="1403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8"/>
              <p:cNvSpPr txBox="1"/>
              <p:nvPr/>
            </p:nvSpPr>
            <p:spPr>
              <a:xfrm>
                <a:off x="7380360" y="2063880"/>
                <a:ext cx="15127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7451640" y="1413000"/>
                <a:ext cx="1441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8" name="Picture 23" descr=""/>
          <p:cNvPicPr/>
          <p:nvPr/>
        </p:nvPicPr>
        <p:blipFill>
          <a:blip r:embed="rId3"/>
          <a:stretch/>
        </p:blipFill>
        <p:spPr>
          <a:xfrm>
            <a:off x="1258920" y="3933720"/>
            <a:ext cx="208908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3889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Решение задачи</a:t>
            </a:r>
            <a:br>
              <a:rPr sz="24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Золотое сечение» и Крем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038400" cy="4486320"/>
          </a:xfrm>
          <a:prstGeom prst="rect">
            <a:avLst/>
          </a:prstGeom>
          <a:ln w="0">
            <a:noFill/>
          </a:ln>
        </p:spPr>
      </p:pic>
      <p:sp>
        <p:nvSpPr>
          <p:cNvPr id="201" name="Line 6"/>
          <p:cNvSpPr/>
          <p:nvPr/>
        </p:nvSpPr>
        <p:spPr>
          <a:xfrm>
            <a:off x="7020000" y="2852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7164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7164360" y="364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7524720" y="4292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759636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766764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8172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17236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817236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>
            <a:off x="8172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6"/>
          <p:cNvSpPr/>
          <p:nvPr/>
        </p:nvSpPr>
        <p:spPr>
          <a:xfrm>
            <a:off x="8172360" y="465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8172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8172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8188200" y="364500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824400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8188200" y="49417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2"/>
              <p:cNvSpPr txBox="1"/>
              <p:nvPr/>
            </p:nvSpPr>
            <p:spPr>
              <a:xfrm>
                <a:off x="2268360" y="2924280"/>
                <a:ext cx="15116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Rectangle 2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4"/>
              <p:cNvSpPr txBox="1"/>
              <p:nvPr/>
            </p:nvSpPr>
            <p:spPr>
              <a:xfrm>
                <a:off x="2411280" y="4130640"/>
                <a:ext cx="17290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Rectangle 27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6"/>
              <p:cNvSpPr txBox="1"/>
              <p:nvPr/>
            </p:nvSpPr>
            <p:spPr>
              <a:xfrm>
                <a:off x="1547640" y="5229360"/>
                <a:ext cx="2448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Rectangle 2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8"/>
              <p:cNvSpPr txBox="1"/>
              <p:nvPr/>
            </p:nvSpPr>
            <p:spPr>
              <a:xfrm>
                <a:off x="7380360" y="333360"/>
                <a:ext cx="1152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3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7524720" y="981000"/>
                <a:ext cx="1008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≈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2"/>
              <p:cNvSpPr txBox="1"/>
              <p:nvPr/>
            </p:nvSpPr>
            <p:spPr>
              <a:xfrm>
                <a:off x="7380360" y="1700280"/>
                <a:ext cx="1224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3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4"/>
              <p:cNvSpPr txBox="1"/>
              <p:nvPr/>
            </p:nvSpPr>
            <p:spPr>
              <a:xfrm>
                <a:off x="5724360" y="404640"/>
                <a:ext cx="12988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≈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3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6"/>
              <p:cNvSpPr txBox="1"/>
              <p:nvPr/>
            </p:nvSpPr>
            <p:spPr>
              <a:xfrm>
                <a:off x="5724360" y="1125360"/>
                <a:ext cx="131616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«Золотое сечение»в башнях московского Кр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05S0427i"/>
          <p:cNvPicPr/>
          <p:nvPr/>
        </p:nvPicPr>
        <p:blipFill>
          <a:blip r:embed="rId1"/>
          <a:stretch/>
        </p:blipFill>
        <p:spPr>
          <a:xfrm>
            <a:off x="1258920" y="2421000"/>
            <a:ext cx="691200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457200"/>
            <a:ext cx="7189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остроение пятиконечной звез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611600" cy="3299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IMG_0498"/>
          <p:cNvPicPr/>
          <p:nvPr/>
        </p:nvPicPr>
        <p:blipFill>
          <a:blip r:embed="rId2">
            <a:biLevel thresh="50000"/>
            <a:lum bright="6000"/>
          </a:blip>
          <a:srcRect l="69043" t="23283" r="2203" b="35677"/>
          <a:stretch/>
        </p:blipFill>
        <p:spPr>
          <a:xfrm>
            <a:off x="1476360" y="1989000"/>
            <a:ext cx="2422440" cy="26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краска ст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6"/>
          <p:cNvGraphicFramePr/>
          <p:nvPr/>
        </p:nvGraphicFramePr>
        <p:xfrm>
          <a:off x="1476360" y="1628640"/>
          <a:ext cx="647856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47856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Цветочный газ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3970440" cy="4319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IMG_0365"/>
          <p:cNvPicPr/>
          <p:nvPr/>
        </p:nvPicPr>
        <p:blipFill>
          <a:blip r:embed="rId2"/>
          <a:stretch/>
        </p:blipFill>
        <p:spPr>
          <a:xfrm>
            <a:off x="900000" y="1700280"/>
            <a:ext cx="3127320" cy="2354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IMG_0364"/>
          <p:cNvPicPr/>
          <p:nvPr/>
        </p:nvPicPr>
        <p:blipFill>
          <a:blip r:embed="rId3"/>
          <a:stretch/>
        </p:blipFill>
        <p:spPr>
          <a:xfrm>
            <a:off x="900000" y="4292640"/>
            <a:ext cx="305604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920" y="480960"/>
            <a:ext cx="718992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амый красивый прямо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3348000" y="1773360"/>
          <a:ext cx="5568840" cy="38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73360"/>
                    <a:ext cx="556884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Picture 6" descr="af06803i"/>
          <p:cNvPicPr/>
          <p:nvPr/>
        </p:nvPicPr>
        <p:blipFill>
          <a:blip r:embed="rId3"/>
          <a:stretch/>
        </p:blipFill>
        <p:spPr>
          <a:xfrm>
            <a:off x="468360" y="4114800"/>
            <a:ext cx="331164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6720" y="480600"/>
            <a:ext cx="7929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«Золотое сечение»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круг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1280" y="1988640"/>
            <a:ext cx="374328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3280" y="1844640"/>
            <a:ext cx="410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Принцип золотого сечения – высшее проявление структурного совершенства целого и его частей в природе, искусстве, науке и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IMG_0501"/>
          <p:cNvPicPr/>
          <p:nvPr/>
        </p:nvPicPr>
        <p:blipFill>
          <a:blip r:embed="rId1"/>
          <a:stretch/>
        </p:blipFill>
        <p:spPr>
          <a:xfrm>
            <a:off x="642960" y="2000160"/>
            <a:ext cx="35575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08360" cy="2305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131920"/>
            <a:ext cx="5699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1. Увлекательная исто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«Божественной пропор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2.Всеобщий характер исследуем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3.Познание законов гармонии и кра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381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окровища г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«Геометрия владеет двумя сокровищами: одно из них – теорема Пифагора, другое – деление отрезка в среднем и крайнем отноше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И. Кеп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332000" y="443700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5219640" y="5300640"/>
            <a:ext cx="1851120" cy="1381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IMG_0048"/>
          <p:cNvPicPr/>
          <p:nvPr/>
        </p:nvPicPr>
        <p:blipFill>
          <a:blip r:embed="rId4"/>
          <a:srcRect l="19063" t="0" r="10617" b="0"/>
          <a:stretch/>
        </p:blipFill>
        <p:spPr>
          <a:xfrm>
            <a:off x="7556400" y="476280"/>
            <a:ext cx="1177920" cy="223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IMG_0470"/>
          <p:cNvPicPr/>
          <p:nvPr/>
        </p:nvPicPr>
        <p:blipFill>
          <a:blip r:embed="rId5"/>
          <a:stretch/>
        </p:blipFill>
        <p:spPr>
          <a:xfrm>
            <a:off x="6443640" y="1557360"/>
            <a:ext cx="1674720" cy="1170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IMG_0453"/>
          <p:cNvPicPr/>
          <p:nvPr/>
        </p:nvPicPr>
        <p:blipFill>
          <a:blip r:embed="rId6"/>
          <a:stretch/>
        </p:blipFill>
        <p:spPr>
          <a:xfrm>
            <a:off x="5435640" y="584280"/>
            <a:ext cx="1944720" cy="1209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7"/>
          <a:stretch/>
        </p:blipFill>
        <p:spPr>
          <a:xfrm>
            <a:off x="971640" y="4941720"/>
            <a:ext cx="146376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Цель работ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доказательство присутствия золотого сечения в окружающем нас мир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историю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зировать теоре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д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присутствие золотого с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ружающе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применение матери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877080" y="206064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с учебной и научно-популярной литера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ологический 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людение, сравнение, анализ, аналогия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Объект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золотое се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редме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«золотое се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в переплётах школьных учебников, расположении листьев на стебле, пропорциях человеческого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Что такое «Золотое сечение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12"/>
          <p:cNvGraphicFramePr/>
          <p:nvPr/>
        </p:nvGraphicFramePr>
        <p:xfrm>
          <a:off x="1116000" y="1700280"/>
          <a:ext cx="727236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272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987640" y="1989000"/>
            <a:ext cx="285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118692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12589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 flipV="1">
            <a:off x="1187280" y="19882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116000" y="148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651640" y="1557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2843280" y="1413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973840" y="1463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1187280" y="2781360"/>
                <a:ext cx="46087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Rectangle 1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1476360" y="4724280"/>
                <a:ext cx="31669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Задача Евкл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042920" y="1413000"/>
            <a:ext cx="194328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 flipV="1">
            <a:off x="4356000" y="1915200"/>
            <a:ext cx="2971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6364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403280" y="4221000"/>
                <a:ext cx="23050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4716360" y="4292640"/>
                <a:ext cx="302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Rectangle 13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3059280" y="5213520"/>
                <a:ext cx="338436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5796000" y="3141720"/>
                <a:ext cx="431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3924360" y="2322360"/>
                <a:ext cx="40968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6265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остроение «золотого сеч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IMG_0497"/>
          <p:cNvPicPr/>
          <p:nvPr/>
        </p:nvPicPr>
        <p:blipFill>
          <a:blip r:embed="rId1"/>
          <a:srcRect l="0" t="32646" r="64454" b="30732"/>
          <a:stretch/>
        </p:blipFill>
        <p:spPr>
          <a:xfrm>
            <a:off x="1187280" y="2349360"/>
            <a:ext cx="2880000" cy="227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IMG_0496"/>
          <p:cNvPicPr/>
          <p:nvPr/>
        </p:nvPicPr>
        <p:blipFill>
          <a:blip r:embed="rId2"/>
          <a:srcRect l="0" t="9378" r="1565" b="15630"/>
          <a:stretch/>
        </p:blipFill>
        <p:spPr>
          <a:xfrm>
            <a:off x="4535640" y="2060640"/>
            <a:ext cx="4608360" cy="2560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1619280" y="4812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спосо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228720" y="479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спос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8"/>
              <p:cNvSpPr txBox="1"/>
              <p:nvPr/>
            </p:nvSpPr>
            <p:spPr>
              <a:xfrm>
                <a:off x="1187280" y="5157720"/>
                <a:ext cx="25927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Rectangle 11"/>
          <p:cNvSpPr/>
          <p:nvPr/>
        </p:nvSpPr>
        <p:spPr>
          <a:xfrm>
            <a:off x="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5651640" y="5157720"/>
                <a:ext cx="19447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«Золотые»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2400120" cy="227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rcRect l="3114" t="0" r="0" b="0"/>
          <a:stretch/>
        </p:blipFill>
        <p:spPr>
          <a:xfrm>
            <a:off x="4211640" y="1413000"/>
            <a:ext cx="4486320" cy="25905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84360" y="4176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938480" y="4003200"/>
            <a:ext cx="352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2:33:40Z</dcterms:created>
  <dc:creator>Tatyana</dc:creator>
  <dc:description/>
  <dc:language>en-US</dc:language>
  <cp:lastModifiedBy>Ученик</cp:lastModifiedBy>
  <dcterms:modified xsi:type="dcterms:W3CDTF">2010-01-18T12:05:45Z</dcterms:modified>
  <cp:revision>51</cp:revision>
  <dc:subject/>
  <dc:title>Золотое сечение вокруг нас</dc:title>
</cp:coreProperties>
</file>